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531-F716-4883-8108-7FB3744B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DAF-BB53-4152-890F-5A340330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8FF-7A94-4FE2-94AB-1DD5657A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3B8-324B-4440-8D56-85BC7CD8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D30-9633-4303-A85B-A8DA6DED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8E0-8C6F-4247-84E2-9D69B103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F9E-FFCA-49E5-B5E1-55BCE325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2A2-CA5A-4B20-97EF-5AF271ED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CE6-6CAB-4EDB-AE09-747D06B3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AB8-3622-4607-B60A-8F2837A3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EA3-19A2-47D9-B9C7-F8BB934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7DE-954B-4059-B5E9-6C10685E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3731-FC68-484D-8BE7-7DB448594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2" descr=""/>
          <p:cNvPicPr/>
          <p:nvPr/>
        </p:nvPicPr>
        <p:blipFill>
          <a:blip r:embed="rId2"/>
          <a:stretch/>
        </p:blipFill>
        <p:spPr>
          <a:xfrm>
            <a:off x="31680" y="6308640"/>
            <a:ext cx="9110880" cy="577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C:\Documents and Settings\sqz\桌面\图片1.jpg"/>
          <p:cNvPicPr/>
          <p:nvPr/>
        </p:nvPicPr>
        <p:blipFill>
          <a:blip r:embed="rId3"/>
          <a:srcRect l="397" t="671" r="216" b="51670"/>
          <a:stretch/>
        </p:blipFill>
        <p:spPr>
          <a:xfrm>
            <a:off x="0" y="0"/>
            <a:ext cx="9142560" cy="328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答辩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专 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导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论文题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3:30:32Z</dcterms:created>
  <dc:creator>gh</dc:creator>
  <dc:description/>
  <dc:language>en-US</dc:language>
  <cp:lastModifiedBy>AutoBVT</cp:lastModifiedBy>
  <dcterms:modified xsi:type="dcterms:W3CDTF">2017-12-18T12:48:21Z</dcterms:modified>
  <cp:revision>9</cp:revision>
  <dc:subject/>
  <dc:title>幻灯片 1</dc:title>
</cp:coreProperties>
</file>