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C76B-EB96-4BD1-B783-449A078C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0FE9-F483-4314-9385-22381976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0760-18C6-4A73-A719-3E61D5C2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D01C-1463-4F8D-B4EF-FB79C137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355-76F7-4967-A299-9E6048E0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513-9626-47BB-8528-7C01AA43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F320-F360-4DDA-8393-DDEE0B08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A53-C8BA-43F9-B4E2-21FAB7B6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6FC-DD9E-4758-9B58-7D84FEDC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7B6-06E2-4071-B04E-EEFA1D65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D3A-487C-47E8-91FB-587B3600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8293-8200-475A-AA19-076D35E9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802C-AFB2-4B9F-A481-1F4B8EB95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2" descr=""/>
          <p:cNvPicPr/>
          <p:nvPr/>
        </p:nvPicPr>
        <p:blipFill>
          <a:blip r:embed="rId2"/>
          <a:stretch/>
        </p:blipFill>
        <p:spPr>
          <a:xfrm>
            <a:off x="31680" y="6308640"/>
            <a:ext cx="9110880" cy="577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C:\Documents and Settings\sqz\桌面\图片1.jpg"/>
          <p:cNvPicPr/>
          <p:nvPr/>
        </p:nvPicPr>
        <p:blipFill>
          <a:blip r:embed="rId3"/>
          <a:srcRect l="397" t="671" r="216" b="51670"/>
          <a:stretch/>
        </p:blipFill>
        <p:spPr>
          <a:xfrm>
            <a:off x="0" y="0"/>
            <a:ext cx="9142560" cy="328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答辩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专    业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导    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11280" y="16999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论文题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3:30:32Z</dcterms:created>
  <dc:creator>gh</dc:creator>
  <dc:description/>
  <dc:language>en-US</dc:language>
  <cp:lastModifiedBy>zju-alexshen</cp:lastModifiedBy>
  <dcterms:modified xsi:type="dcterms:W3CDTF">2019-01-06T12:46:03Z</dcterms:modified>
  <cp:revision>10</cp:revision>
  <dc:subject/>
  <dc:title>幻灯片 1</dc:title>
</cp:coreProperties>
</file>