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B70-2124-4665-942F-A1C71670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60C6-F19E-4BE5-B77B-38007FE6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242-C71D-4244-A180-D7F6535C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4791-7EDF-4CE3-A4F7-A6808E40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167-AC46-4ED3-8B17-32F5CEE9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2BB-C3A5-42A6-98FE-1D0CC90B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E536-01CE-42F3-844C-343DB752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61E-69E0-4189-9F7D-FCF5EBA4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99EB-1C2D-4E48-97B1-C540BD3E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12D-E9FA-4E84-BA6B-7F9D328D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753-A1AE-4575-A5A9-4451A929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EFF-217C-4652-99E3-8E59FFA2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435E-E024-4177-98C1-AA488D830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2" descr=""/>
          <p:cNvPicPr/>
          <p:nvPr/>
        </p:nvPicPr>
        <p:blipFill>
          <a:blip r:embed="rId2"/>
          <a:stretch/>
        </p:blipFill>
        <p:spPr>
          <a:xfrm>
            <a:off x="31680" y="6308640"/>
            <a:ext cx="9110880" cy="577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C:\Documents and Settings\sqz\桌面\图片1.jpg"/>
          <p:cNvPicPr/>
          <p:nvPr/>
        </p:nvPicPr>
        <p:blipFill>
          <a:blip r:embed="rId3"/>
          <a:srcRect l="397" t="671" r="216" b="51670"/>
          <a:stretch/>
        </p:blipFill>
        <p:spPr>
          <a:xfrm>
            <a:off x="0" y="0"/>
            <a:ext cx="9142560" cy="328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答辩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专    业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导    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11280" y="16999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论文题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3:30:32Z</dcterms:created>
  <dc:creator>gh</dc:creator>
  <dc:description/>
  <dc:language>en-US</dc:language>
  <cp:lastModifiedBy>zju-alexshen</cp:lastModifiedBy>
  <dcterms:modified xsi:type="dcterms:W3CDTF">2019-01-06T12:46:03Z</dcterms:modified>
  <cp:revision>10</cp:revision>
  <dc:subject/>
  <dc:title>幻灯片 1</dc:title>
</cp:coreProperties>
</file>